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040C-10D2-4986-AC26-A08719D1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A4EE-700A-4D56-9406-F140ED6B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CFEB-9CBF-46D7-85EC-F9708A71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A9EF-72F7-4894-9D7C-0308850A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1F6-3892-4731-8750-E25413F4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3F0-56B0-4325-87F8-5FF16CBA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92E6-0A00-44F5-BB60-AB3720A8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CBC5-7D9C-4322-89EA-D7BDA79F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7DD1-E281-4F55-942D-7E8110E4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1A67-21AE-4E14-8CF6-F397900E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001A-91E8-4578-A758-D2114E6B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43A-3921-459C-963D-AF71F974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0920-4ADE-49B7-B199-DE0D633B7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oudy Old Style"/>
              </a:rPr>
              <a:t>Medieval Catapul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oudy Old Style"/>
              </a:rPr>
              <a:t>Word 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oudy Old Style"/>
              </a:rPr>
              <a:t>Chaucer and Framed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oudy Old Style"/>
              </a:rPr>
              <a:t>Elements of pl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38023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Goudy Old Style"/>
              </a:rPr>
              <a:t>Catapul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The word 'Catapult' comes from the two Greek words "kata" and "pultos". "Kata" means downward and "pultos" refers to a small circular shield which was carried in battle. Katapultos was then taken to mean "shield piercer"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Goudy Old Style"/>
              </a:rPr>
              <a:t>Geoffrey Chauc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Born 1343 in London, En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Wrote “The Canterbury Tale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28861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oudy Old Style"/>
              </a:rPr>
              <a:t>Framed Sto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oudy Old Style"/>
              </a:rPr>
              <a:t>A story inside a s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Elements of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Exposition – the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Rising Action – the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Climax – the most exciting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Resolution – coming down from climax, all the problems are sol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oudy Old Style"/>
              </a:rPr>
              <a:t>Writing Scenario</a:t>
            </a:r>
            <a:r>
              <a:rPr b="0" lang="en-US" sz="6000" spc="-1" strike="noStrike">
                <a:solidFill>
                  <a:srgbClr val="000000"/>
                </a:solidFill>
                <a:latin typeface="Goudy Old Style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King Edward I has been having trouble with the Scots.  He needs help protecting his castles from the invading people from Scotland.  Write a story using the members of your group as characters who use your newly named “catapult” to protect the king’s castle.  Remember to give your framed story a beginning, a middle, and an end, as well as a ti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8:38:03Z</dcterms:created>
  <dc:creator>OSU</dc:creator>
  <dc:description/>
  <dc:language>en-US</dc:language>
  <cp:lastModifiedBy>OSU</cp:lastModifiedBy>
  <dcterms:modified xsi:type="dcterms:W3CDTF">2008-07-21T19:30:58Z</dcterms:modified>
  <cp:revision>3</cp:revision>
  <dc:subject/>
  <dc:title>Medieval Catapults</dc:title>
</cp:coreProperties>
</file>